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4.pct" ContentType="image/x-pict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DA49-F41B-48E0-8530-631DFD01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CF8D-E11D-491F-B082-DCFC2892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6CE8-7D9E-489A-840C-1E6ECA699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EEF8-F772-4D15-B841-5EFB93909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1D6D-BF61-42C4-8E3A-C4B1AB82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F595-4C0B-48FF-A126-AB7AB719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5386-D8AC-4DDC-A2AC-28853573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5EF7-6E51-45C6-8B8A-F1D2EFE6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D989-5E78-482F-B746-89075E73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52C1-00FB-4822-8BD6-1B04357E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C17D-E872-45AD-BC2C-2F583A4C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6771-69F6-4EED-8C4D-D4A53378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B733-0048-45B4-9BAD-0743F23D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BCF0-81C2-42F9-B87A-25F06DDB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1E25-E04B-4C54-A1EF-50417FF2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6F41-9A50-4405-AF2B-C6BAD7D1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5C08-C316-42A2-AE6C-2FBE0A043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B28C-19E1-4BB2-9B03-D6F26104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02E4-AA4D-4197-97C6-1D937855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C04F-308F-405E-A339-B5C08335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4AE2-AD01-4026-8A25-6A15683B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A380-810A-4DDD-B94C-5802F878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E10C-2755-4C71-A2F6-8E709FB2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1C54-A0D3-443B-B5B1-D39E051F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8280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37592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3DEE-07C7-4ADF-AF50-0C0489F754A7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C5AE-5324-4153-852B-3438657E9387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image" Target="../media/image9.pct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GeoFcgq_PlY" TargetMode="External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VVGMAhFxH9A" TargetMode="External"/><Relationship Id="rId3" Type="http://schemas.openxmlformats.org/officeDocument/2006/relationships/hyperlink" Target="http://www.youtube.com/watch?v=HJoyOl7_QBg" TargetMode="External"/><Relationship Id="rId4" Type="http://schemas.openxmlformats.org/officeDocument/2006/relationships/image" Target="../media/image13.pct"/><Relationship Id="rId5" Type="http://schemas.openxmlformats.org/officeDocument/2006/relationships/image" Target="../media/image14.pct"/><Relationship Id="rId6" Type="http://schemas.openxmlformats.org/officeDocument/2006/relationships/image" Target="../media/image10.pct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hapter 2:  Economic System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urn right 1 mi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raditiona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you need to kno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981080" y="2743200"/>
            <a:ext cx="1905120" cy="1422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105520" y="2743200"/>
            <a:ext cx="2133360" cy="1417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352520" y="4489560"/>
            <a:ext cx="63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based on TRADITION…don’t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eople or Government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rke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295280" y="3048120"/>
            <a:ext cx="2819520" cy="1743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181480" y="2895480"/>
            <a:ext cx="2667240" cy="2009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95280" y="498960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people, no gov’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05240" y="497520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gov’t, no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ixe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ught to sha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people power, some gov’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048120" y="3429000"/>
            <a:ext cx="274320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arkets rock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me 3 markets found in tow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447920" y="2819520"/>
            <a:ext cx="1904760" cy="1434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581280" y="2819520"/>
            <a:ext cx="1727280" cy="1358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715000" y="2819520"/>
            <a:ext cx="1841400" cy="1319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295640" y="460368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where things are bought &amp; s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hat makes it work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ach person does their own th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does that do when we SPECIALIZ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else do we all do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y do you buy banana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993240" y="5029200"/>
            <a:ext cx="67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www.youtube.com/watch?v=GeoFcgq_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HS-MCREEGER:Users:creeger_m:Desktop:_date_tree_climbing_in_a_Sahara_Oasi.mov" descr=""/>
          <p:cNvPicPr/>
          <p:nvPr/>
        </p:nvPicPr>
        <p:blipFill>
          <a:blip r:embed="rId3"/>
          <a:stretch/>
        </p:blipFill>
        <p:spPr>
          <a:xfrm>
            <a:off x="1527120" y="1395360"/>
            <a:ext cx="60976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1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ho has more power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l-Mart is huge (2.1m employees &amp; $400b + in revenu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are you more powerful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SUMER SOVEREIGN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rket is a beautiful th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reathe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ke sure first two sections are finish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ll about the gov’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entral gov’t has all the pow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cide what? How? For whom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924200" y="3276720"/>
            <a:ext cx="1554120" cy="20574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334120" y="3276720"/>
            <a:ext cx="1555560" cy="2133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64680" y="41148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hat was the focus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Verdana"/>
                <a:hlinkClick r:id="rId2"/>
              </a:rPr>
              <a:t>http://www.youtube.com/watch?v=VVGMAhFxH9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Verdana"/>
                <a:hlinkClick r:id="rId3"/>
              </a:rPr>
              <a:t>http://www.youtube.com/watch?v=HJoyOl7_QB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676520" y="3200400"/>
            <a:ext cx="1942920" cy="2590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4572000" y="3200400"/>
            <a:ext cx="2141640" cy="2438280"/>
          </a:xfrm>
          <a:prstGeom prst="rect">
            <a:avLst/>
          </a:prstGeom>
          <a:ln w="0">
            <a:noFill/>
          </a:ln>
        </p:spPr>
      </p:pic>
      <p:pic>
        <p:nvPicPr>
          <p:cNvPr id="137" name="HS-MCREEGER:Users:creeger_m:Desktop:_Nuclear_Weapons_Test-Castle-Bravo_15mt.mov" descr=""/>
          <p:cNvPicPr/>
          <p:nvPr/>
        </p:nvPicPr>
        <p:blipFill>
          <a:blip r:embed="rId6"/>
          <a:stretch/>
        </p:blipFill>
        <p:spPr>
          <a:xfrm>
            <a:off x="1527120" y="1395360"/>
            <a:ext cx="60976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4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hat problems arise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guns; no butt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ople di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is the workforce affected if everyone is guaranteed a job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nk about it from your perspecti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arm U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is a PPC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can a PPC be used to help analyze decision making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O INCENTIV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y would you work hard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happens when you always have a job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ba 1.8% unemployment (14th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$12,700 average inco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ada 6.1% unemploy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$40,200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overnment doesn’t rock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ystem is inherently flaw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do as little as we need to to get b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eaching to the choi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arm U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plain the difference between command and market economi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ich would you want to live in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ood &amp; bad new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chnically we have no market or command economies toda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count as mix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rt people, part gov’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ary in amount of gov’t contro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art in boo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y do even we need some gov’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ink about the recess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ight now things are not going we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am Smith knew his stuf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would happen without gov’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’d fall ap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else do they do for u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VIDE THINGS MARKET DOES NOT…HELP US WHEN WE FA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UMMAR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all have to live, function, and survive together (ECONOMIC SYSTEM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ary in amounts of gov’t contro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RE MARKET, MORE MONE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XT CHAPTER WE EXPLORE OUR SYSTEM FURTH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ide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scuss Marshmallow Mans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apter 2 Intro Activ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ver all of Chapter 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ill have time at the end for extra credit activ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scuss M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ke sure to turn in your handou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ctivit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ups trying to win a “special” priz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in by scoring the most poi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ups will receive 3 sheets of paper &amp; one pair of scisso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n make any combo of the following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per footballs- 5 points ea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per cards- 3 points ea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umpled balls- 1 point ea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L PAPER MUST BE CU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ollow u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 a group, what did you do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did you have to figure ou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You just had on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finition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’s it mean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to mak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to make i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o gets i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e all do it…are we all the same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bsolutely not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ffer in 7 goals we fav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fficienc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reedo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urity &amp; predictabil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qu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owth &amp; innov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iggest diff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 in the 3 key ques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 in 7 goals preferr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iggest occurs in who has the pow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 different options:  market, command, mixed, &amp; tradition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01:52:08Z</dcterms:created>
  <dc:creator>Lewisburg Area School District</dc:creator>
  <dc:description/>
  <dc:language>en-US</dc:language>
  <cp:lastModifiedBy>Lewisburg Area School District</cp:lastModifiedBy>
  <dcterms:modified xsi:type="dcterms:W3CDTF">2010-01-28T14:28:11Z</dcterms:modified>
  <cp:revision>12</cp:revision>
  <dc:subject/>
  <dc:title>Chapter 2:  Economic Systems</dc:title>
</cp:coreProperties>
</file>